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35.gif" ContentType="image/gif"/>
  <Override PartName="/ppt/media/image7.jpeg" ContentType="image/jpeg"/>
  <Override PartName="/ppt/media/image28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13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5F8-6C92-4721-BAF7-D7C1914E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35B-0DE3-4B9B-B8F7-0D5B3389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8CB-B63E-41E4-A1CF-746C8FA6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2C7-2746-4289-ABC9-28A3C77C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2B57-5AFA-4C3F-B547-764D9834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A8E2-6337-4DD4-B1E9-A41F62FE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8D11-0C64-40C2-BFF2-FD7C2FCF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A420-3241-4082-9EFD-2B1CC732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7C58-3875-442F-A760-683DF2A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3D18-34F6-4152-A888-343E2FFF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0478-0BED-465A-91D5-1FB6A55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F50-EACF-4F60-9063-4918792E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584-BB5F-4A1A-B4B6-1A7970A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5D6-E725-478D-AA26-F3122D8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C68-1983-47C3-B441-60E7D63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4151-248D-4286-9902-957BEBAF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C7A0-3804-4644-BA0F-F6E90196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319-A6EB-4DC7-BD05-7234F37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37F-9989-4BAD-A7EF-31461A2B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66A-A710-4CFD-AE77-33D005E4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D68-8549-41B8-9F4F-14C30E4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21B-8DAF-4E9B-8CD0-D2C7A5C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A5F-679B-4523-8EB6-115D43B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E8F-17D0-45DE-A891-3827865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422E-CF57-4D3E-9FB3-25C5F8C24F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EBE-D755-4EDD-A259-B20A27F98F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hollywoodchicago.com/uploaded_images/will_smith.jpg&amp;imgrefurl=http://www.windycitizen.com/blogs/nearly-next-year/2008/07/07/now-casting-cubs-vs-cardinals-the-movie&amp;usg=__9UgYf5fWf2ZnXIYgEp-pWlgX2fo=&amp;h=398&amp;w=299&amp;sz=45&amp;hl=en&amp;start=10&amp;um=1&amp;tbnid=LbhSTYQDwBw66M:&amp;tbnh=124&amp;tbnw=93&amp;prev=/images%3Fq%3Dwill%2Bsmith%26hl%3Den%26safe%3Dactive%26rls%3Dcom.microsoft:*%26sa%3DN%26um%3D1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21.jpe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2.gif"/><Relationship Id="rId7" Type="http://schemas.openxmlformats.org/officeDocument/2006/relationships/image" Target="../media/image10.jpeg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Arial"/>
              </a:rPr>
              <a:t>¿Qué te gustaría ser?</a:t>
            </a:r>
            <a:endParaRPr b="0" lang="en-US" sz="6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s Trabajo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__.  Los ________ trabajan en una ______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SchoolCenter Picture"/>
          <p:cNvPicPr/>
          <p:nvPr/>
        </p:nvPicPr>
        <p:blipFill>
          <a:blip r:embed="rId1"/>
          <a:stretch/>
        </p:blipFill>
        <p:spPr>
          <a:xfrm>
            <a:off x="609480" y="2438280"/>
            <a:ext cx="3370320" cy="3733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4038480" cy="2684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85160" y="5791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directo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________.  Los ______trabajan en Hollywood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971880" cy="297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43434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943600" y="1600200"/>
            <a:ext cx="2590920" cy="2085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812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ac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61840" y="28195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s act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90400" y="46483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actriz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 gustaría ser ______.  Los _________trabajan en la oficina de corre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44640" y="198108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56360" y="62485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carte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28958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. Los ____________ curan _______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terinari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352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60920" y="5867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l veterina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57680" y="5715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veterinar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271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04960" cy="4991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67880" y="571500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Un bombe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62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_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4114800" cy="3352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86400" y="1905120"/>
            <a:ext cx="2481120" cy="3733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39800" y="53341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polic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88880" y="56386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polic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te gustaría ser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1204920" cy="1295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523880" cy="14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276720" y="3352680"/>
            <a:ext cx="1382760" cy="1714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1476360" cy="2209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2133720" y="4495680"/>
            <a:ext cx="1703160" cy="182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705720" y="3505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1066680" y="1600200"/>
            <a:ext cx="851040" cy="1447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2514600" y="1523880"/>
            <a:ext cx="10382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553080" y="1447920"/>
            <a:ext cx="1257480" cy="1838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943600" y="4876920"/>
            <a:ext cx="1508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1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1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 ___________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_________ trabaja en una escuela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9376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962520" cy="3500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3733920" cy="248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1160" y="57150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maest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56386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maest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_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35304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962520" cy="4267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200" y="60958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cantan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2484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cantan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. __________trabajan en el hospital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776600" cy="1631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5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3371760" cy="212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24880" y="60199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medi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__.  Los ___________ curan tus diente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nstis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15800" y="571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densti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63720" y="525780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s dient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.  Me gusta pintar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tis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644560" cy="4496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4800600" cy="3219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920" y="58672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arti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07200" y="5257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arti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__.  Las __________ trabajan en el _________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619280" cy="1104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5029200" cy="3933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160020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72440" y="5867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s enfermer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9440" y="57150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enferme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___________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3809880" cy="27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2532240" cy="381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03320" y="59436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jugador de fútbo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7520" y="51055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equipo de fútbo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.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39680" y="518148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jugador de fútbol american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8098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20:37:48Z</dcterms:created>
  <dc:creator>WFU</dc:creator>
  <dc:description/>
  <dc:language>en-US</dc:language>
  <cp:lastModifiedBy>WSFCS Workstation</cp:lastModifiedBy>
  <dcterms:modified xsi:type="dcterms:W3CDTF">2010-04-14T15:04:53Z</dcterms:modified>
  <cp:revision>20</cp:revision>
  <dc:subject/>
  <dc:title>¿Qué te gustaría ser?</dc:title>
</cp:coreProperties>
</file>